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C0AD-58FD-4142-B711-2B81A22EB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7A36-8575-4FCE-A019-6F8E8431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172A-FB01-4833-BDD5-FCEED086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7FAB-0AC1-4D77-BE7C-A097A1F67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BD39-7AA6-46EE-BE54-8EF1A1D4F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28EC-6190-4F3C-9E51-0F0007AE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8A44-4CE8-4121-BF00-42CC871D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5ED2-286F-4D97-ADA3-6EF1E65D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CB02-50B0-4E40-AFC6-3AF00AF4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0252-9ECF-44D0-A73B-B6D00EE5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0C76-BEBF-4EBA-B7FD-7B2E0CB6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3EE7-6637-45F8-B87E-3131FFAD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987F-1989-49E2-8910-436EDC52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3F81-31DE-4E35-B658-923C1A7A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2805-131C-4BFA-81FC-9AC4C96E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F5AD-366C-41B6-83FF-E0FBE8E5E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4C88-DE67-4BB5-9D78-96820BF57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C02F-CEAF-4A4C-A4F2-40B70175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0E23-A498-455B-A046-5F38D414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7DEF-063B-4B42-A7D5-90A2E161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AC72-8326-4EA2-A56C-8179B298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D0CD-08AB-4167-8A69-0DF974CA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57DC-5B2C-4248-886B-DC9C93B0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F1FE-87FD-46B9-B846-063AE7A9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32BD-86FC-4CF4-9166-9510EF9CA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E6F4-6D7D-48A7-BCFA-FABFA8281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Scavenger Hunt</a:t>
            </a:r>
            <a:br>
              <a:rPr sz="4400"/>
            </a:br>
            <a:r>
              <a:rPr b="0" lang="en-US" sz="1800" spc="-1" strike="noStrike">
                <a:solidFill>
                  <a:srgbClr val="666633"/>
                </a:solidFill>
                <a:latin typeface="Times New Roman"/>
              </a:rPr>
              <a:t>A vocabulary game from Mentoring Minds</a:t>
            </a:r>
            <a:br>
              <a:rPr sz="1800"/>
            </a:br>
            <a:r>
              <a:rPr b="0" lang="en-US" sz="1800" spc="-1" strike="noStrike">
                <a:solidFill>
                  <a:srgbClr val="666633"/>
                </a:solidFill>
                <a:latin typeface="Times New Roman"/>
              </a:rPr>
              <a:t>Grades 1-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mall groups or partners to search for examples of their vocabulary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Scavenger Hu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class into small groups or partn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each student group 4-5 vocabulary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search the room for examples of their words, depending on the words have students record examples or actually collect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student groups share their words and examples with the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inning team is the first group to find examples for all of their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9T13:57:35Z</dcterms:created>
  <dc:creator>Ann Weeks</dc:creator>
  <dc:description/>
  <dc:language>en-US</dc:language>
  <cp:lastModifiedBy>Ann Weeks</cp:lastModifiedBy>
  <dcterms:modified xsi:type="dcterms:W3CDTF">2008-06-29T15:04:43Z</dcterms:modified>
  <cp:revision>10</cp:revision>
  <dc:subject/>
  <dc:title>Light Up the World A vocabulary game from Mentoring Minds Grades 1-4</dc:title>
</cp:coreProperties>
</file>